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1AD-2AF5-42E8-A828-0EF896A6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346-AFD8-4338-BDB2-9BC812C1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44D-D8DC-4345-8C39-1044497E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141-289D-4158-A386-7D12651E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08A-49E7-40A3-AF34-6D84FE42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2B5-C3B5-48EA-B549-CC34F99D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66B-50AC-4D7C-B9C8-C28699F6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415-4CC2-4DCB-946A-71CF8D6D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1B3-B756-4E82-A4EE-12427E26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85B-898D-45B0-9ACD-5DB3BBA0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245-31F1-4650-9292-22C797A2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DF7-8C4D-4002-A901-4F1528FB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E2DE-637D-4508-8D4C-0C07F52C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72" t="5433" r="969" b="10161"/>
          <a:stretch/>
        </p:blipFill>
        <p:spPr>
          <a:xfrm>
            <a:off x="1755720" y="849240"/>
            <a:ext cx="7086600" cy="50608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246120" y="2895480"/>
            <a:ext cx="3410280" cy="368280"/>
            <a:chOff x="3246120" y="2895480"/>
            <a:chExt cx="3410280" cy="368280"/>
          </a:xfrm>
        </p:grpSpPr>
        <p:sp>
          <p:nvSpPr>
            <p:cNvPr id="43" name=""/>
            <p:cNvSpPr/>
            <p:nvPr/>
          </p:nvSpPr>
          <p:spPr>
            <a:xfrm flipH="1">
              <a:off x="3246120" y="30780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4203720" y="30798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87920" y="2895480"/>
              <a:ext cx="19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lysis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81160" y="5005440"/>
            <a:ext cx="1008000" cy="382680"/>
            <a:chOff x="1181160" y="5005440"/>
            <a:chExt cx="1008000" cy="382680"/>
          </a:xfrm>
        </p:grpSpPr>
        <p:sp>
          <p:nvSpPr>
            <p:cNvPr id="47" name=""/>
            <p:cNvSpPr/>
            <p:nvPr/>
          </p:nvSpPr>
          <p:spPr>
            <a:xfrm>
              <a:off x="1181160" y="5005440"/>
              <a:ext cx="1008000" cy="36828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01640" y="5230800"/>
              <a:ext cx="5256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168560" y="4730760"/>
            <a:ext cx="1025280" cy="471600"/>
            <a:chOff x="1168560" y="4730760"/>
            <a:chExt cx="1025280" cy="471600"/>
          </a:xfrm>
        </p:grpSpPr>
        <p:sp>
          <p:nvSpPr>
            <p:cNvPr id="50" name=""/>
            <p:cNvSpPr/>
            <p:nvPr/>
          </p:nvSpPr>
          <p:spPr>
            <a:xfrm>
              <a:off x="1168560" y="4730760"/>
              <a:ext cx="838080" cy="36828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16040" y="4873680"/>
              <a:ext cx="57780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192320" y="5283360"/>
            <a:ext cx="969480" cy="440640"/>
            <a:chOff x="1192320" y="5283360"/>
            <a:chExt cx="969480" cy="440640"/>
          </a:xfrm>
        </p:grpSpPr>
        <p:sp>
          <p:nvSpPr>
            <p:cNvPr id="53" name=""/>
            <p:cNvSpPr/>
            <p:nvPr/>
          </p:nvSpPr>
          <p:spPr>
            <a:xfrm>
              <a:off x="1192320" y="5283360"/>
              <a:ext cx="533160" cy="440640"/>
            </a:xfrm>
            <a:prstGeom prst="rect">
              <a:avLst/>
            </a:prstGeom>
            <a:solidFill>
              <a:srgbClr val="fffff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615680" y="5505480"/>
              <a:ext cx="546120" cy="4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05:26Z</dcterms:created>
  <dc:creator>R. J. Baken</dc:creator>
  <dc:description/>
  <dc:language>en-US</dc:language>
  <cp:lastModifiedBy>Mathieson</cp:lastModifiedBy>
  <dcterms:modified xsi:type="dcterms:W3CDTF">2007-09-17T10:35:57Z</dcterms:modified>
  <cp:revision>2</cp:revision>
  <dc:subject/>
  <dc:title>Slide 1</dc:title>
</cp:coreProperties>
</file>